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5287-C026-4347-A3EF-E7ADEB88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872C-C7B2-40EF-B471-E64BB49A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DEB9-D7C7-4E28-9020-33B4E778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00D4-C4AD-4EE3-A5E5-DFF738E0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7E3A-3BE7-4297-9917-F8A2AAA5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A5A0-9095-4EA1-8562-5461F49C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63B2C-7B2C-4BEF-BAD5-A7409BE2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7C15-00FA-411E-9B59-19B95B8B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C9BE4-0D90-4A5E-BA8C-8CB5189F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9A09-20E3-4D1B-B457-34BCE912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9578-FC83-4F85-A6BF-2118AC57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D5E6-E613-4C36-A60A-008CD94A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F58A-521B-4D75-8EE6-0A6C37D63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7918-0C16-4C2D-BCDB-9367AAB2B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2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7975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rcial Operations Subcommittee (CO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Harika Basaran, Austi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Jim Lee, Direct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Revision Subcommittee (P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Tom Burke, Brazos Electric Power Co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John Varnell, Tenaska Power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ail Market Subcommittee (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Rob Bevill, Green Mountain Energy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Kathy Scott, CenterPoint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 and Operations Subcommittee (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Blake Williams, CP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Harry Holloway, GDF Suez Energy Marketing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lesale Market Subcommittee (W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Eric Goff, Reliant Energy Retail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Jennifer Bevill, AEP Service Corp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94200" y="15228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12 TAC Subcommittee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lbracht</cp:lastModifiedBy>
  <dcterms:modified xsi:type="dcterms:W3CDTF">2012-01-25T20:15:13Z</dcterms:modified>
  <cp:revision>71</cp:revision>
  <dc:subject/>
  <dc:title>Instructions</dc:title>
</cp:coreProperties>
</file>